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373-37C8-4E1C-AA27-076A2CBE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CFE-6EA2-492C-BAAA-A9E0489F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728-C5A6-41B3-AF53-FF3F6590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5FC-535A-4F5F-8146-FCF52B2F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B52B-5B45-4E66-8908-E28B512C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1516-76AF-4F07-8073-932D1E84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131E-9853-4FE3-8CEE-BC22921F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E1AE-9581-4BE4-9014-E1ACD5C1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3D9-EA4C-4AB4-99EC-811A9B51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5B75-0831-49C3-9859-AB413D3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8653-D89B-48E5-B430-B2C75E7B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90F-CC14-4011-8089-E49D72B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A0DC-29E1-4510-A8BF-4A9C9737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320E-971F-47AD-923D-803E6F6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D1AD-581F-4267-9B37-9109836B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911E-52AB-4D95-AA65-397ED42D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8C4F-C5CD-484D-9761-222F24EB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F7D-D830-44A4-9BD7-92EF3D4A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B0D-8D4C-40ED-AA09-53F19225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2C0-99DC-4793-877C-BF318F49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49D-35A5-42BB-ADE2-F36DA49F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3B8-F773-4F14-A4F6-40760BD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334-C6D2-48A6-A303-482C2920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34A-6EA6-4F5A-9EDF-96FF664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DCF6-0787-4F5F-81E1-8CAFA895528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B7E7-5090-4C29-A221-93AA4D27BD7A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endre le tableau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emple 1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09680"/>
            <a:ext cx="6873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Quelle est la qualité (c.v) des estimés pour la proportion de filles de 3 ans à Terre-Neuve et Labrador au cycle 3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ombien en restera-t-il aux cycles 4 et 5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Est-ce que la qualité souffrira de la réduction dela taille de l’échantillon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523880" y="914400"/>
          <a:ext cx="665820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6582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24080" y="228600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électionnez “est plus grand que”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ns le premier champ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nalement, tapez 33.33 dans le secon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hamps et cliquez sur OK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295280"/>
          <a:ext cx="608184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60818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3962520"/>
            <a:ext cx="5715000" cy="2133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Vous pouvez maintenant voir les première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rangées des estimés qui ne sont pa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ubliables selon les normes de qualité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généralement utilisées à Statistique Canada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371600"/>
          <a:ext cx="84121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121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752480"/>
          <a:ext cx="85345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534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251460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sur la flèche à droite dans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ovince pour sélectionner une provi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828800" y="838080"/>
          <a:ext cx="54687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4687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352680" y="312408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4956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électionner Terre-Neuve et Labrado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TERRE-NEUVE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47242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pour sélectionner C3 Âge = 3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533520"/>
          <a:ext cx="563400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520"/>
                    <a:ext cx="56340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419720" y="19051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uisque la proportion de filles devrait être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ès de 50%, cliquez sur Prop. Cible et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électionnez 50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295280"/>
          <a:ext cx="712476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1247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400800" y="3352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3276720"/>
            <a:ext cx="8001000" cy="2971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Vous pouvez maintenant voir que le c.v. pour ce domain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articulier au cycle 3 était de 17.5% avec 44 enfants da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’échantillon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u cycle 5, nous prévoyons que 35 enfants resteront da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l’échantillon (supposant un taux de réponse de 90% aux cycl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4 et 5) et que le c.v. passera à 19.6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143000"/>
          <a:ext cx="8583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8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endre le tableau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mple 2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09680"/>
            <a:ext cx="6873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Quels domaines basés sur une proportion de 15% ne sont pas publiables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On cherche des domaines pour lesquels le c.v. est supérieur à 33,33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066680"/>
          <a:ext cx="7243920" cy="27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24392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248520" y="2209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et sélectionnez Prop. cible = 15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62320" y="609480"/>
          <a:ext cx="501948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09480"/>
                    <a:ext cx="501948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9907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quez et sélectionnez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ersonnalisé dans bs_cv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4:54:54Z</dcterms:created>
  <dc:creator>garrdid</dc:creator>
  <dc:description/>
  <dc:language>en-US</dc:language>
  <cp:lastModifiedBy>garrdid</cp:lastModifiedBy>
  <dcterms:modified xsi:type="dcterms:W3CDTF">2003-06-11T11:50:52Z</dcterms:modified>
  <cp:revision>9</cp:revision>
  <dc:subject/>
  <dc:title>Understanding the table Example 1</dc:title>
</cp:coreProperties>
</file>