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BACD-8DEC-47B3-9E81-4DCBDB43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808E-EFBB-45FD-8345-4B2C5942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34C-F875-4C36-8590-4EB94372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23CC-481C-4B8D-B8D8-B32C347A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BFFA-E432-413F-9F7D-4B621173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5335-A375-462C-95BA-1DCB30C1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751E-AB17-4691-9F19-CB534203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ADBB-DB7F-4030-A449-9FB91393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9498-D06C-4B35-BAAA-08B7E876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ED91-C407-410A-A1F4-DA82EB23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2660-1402-4D3F-B448-719364D3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6A8B-0267-4469-8C11-F59C207E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AD13-AB9A-4758-88D0-11046AB4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F6CF-3884-4022-8C27-34826D76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63EA-63CE-4AD6-B1F2-3E905723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7B34-3A1E-49C0-A166-EE22BA38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1A40-47E1-4B5B-85DB-DF3F562F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0E52-498E-4D19-B67C-071E7D57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956B-F6D2-4543-B816-5D6AF487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87B3-7B25-472F-A21C-5BA9DA83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0A03-A0B0-4E11-AE6E-62932254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3C23-C11F-4B0D-BC49-4F4B44C2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937F-404D-4638-8576-00E338E7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1118-DC93-49A4-B5A5-BAA48A9D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5EEC-CDCF-4D83-9B90-B454957B9CA5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2385-2ADE-4716-95A4-09C0670883D6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Understanding the table</a:t>
            </a:r>
            <a:br>
              <a:rPr sz="4400"/>
            </a:br>
            <a:r>
              <a:rPr b="0" lang="en-US" sz="2400" spc="-1" strike="noStrike">
                <a:solidFill>
                  <a:srgbClr val="ff00ff"/>
                </a:solidFill>
                <a:latin typeface="Impact"/>
              </a:rPr>
              <a:t>Example 1</a:t>
            </a:r>
            <a:endParaRPr b="0" lang="en-US" sz="2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209680"/>
            <a:ext cx="68738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Question: What is the quality (c.v) of the estimates for the proportion of girls aged 3 in Newfoundland and Labrador at cycle 3?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How many will there be in cycle 4 and 5?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Will the quality suffer from the smaller sample size?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523880" y="914400"/>
          <a:ext cx="665820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14400"/>
                    <a:ext cx="665820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124080" y="2286000"/>
            <a:ext cx="381240" cy="277920"/>
          </a:xfrm>
          <a:prstGeom prst="line">
            <a:avLst/>
          </a:prstGeom>
          <a:ln w="3168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411480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Select “is greater than” in the first field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828800" y="411480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Finally, type in 33.33 in the second field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and click OK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52480" y="1295280"/>
          <a:ext cx="608184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295280"/>
                    <a:ext cx="608184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4114800"/>
            <a:ext cx="655308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You can now see the first few rows of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estimates that we can’t release according to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Statistics Canada generally used quality standards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80880" y="1371600"/>
          <a:ext cx="8412120" cy="17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41212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28600" y="1752480"/>
          <a:ext cx="85345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5345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905120" y="2514600"/>
            <a:ext cx="380880" cy="277920"/>
          </a:xfrm>
          <a:prstGeom prst="line">
            <a:avLst/>
          </a:prstGeom>
          <a:ln w="3168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411480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Click on the right arrow in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Province to select a provinc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828800" y="838080"/>
          <a:ext cx="54687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46876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3352680" y="3124080"/>
            <a:ext cx="381240" cy="277920"/>
          </a:xfrm>
          <a:prstGeom prst="line">
            <a:avLst/>
          </a:prstGeom>
          <a:ln w="3168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449568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Select Newfoundland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and Labrador (Terre-Neuve)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05120" y="472428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Click to select C3 Age = 3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905120" y="533520"/>
          <a:ext cx="5634000" cy="39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533520"/>
                    <a:ext cx="5634000" cy="39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4419720" y="1905120"/>
            <a:ext cx="380880" cy="277560"/>
          </a:xfrm>
          <a:prstGeom prst="line">
            <a:avLst/>
          </a:prstGeom>
          <a:ln w="3168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828800" y="457200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Since the proportion of girls should be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around 50%, click on Prop. Cible and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select 50%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14400" y="1295280"/>
          <a:ext cx="7124760" cy="26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7124760" cy="26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400800" y="3352680"/>
            <a:ext cx="380880" cy="277920"/>
          </a:xfrm>
          <a:prstGeom prst="line">
            <a:avLst/>
          </a:prstGeom>
          <a:ln w="3168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3276720"/>
            <a:ext cx="8001000" cy="29718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You can now see that the c.v. for that particular domain i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cycle 3 was 17.5% with 44 children in the sample.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In cycle 5, we predict 35 children will be left in sampl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(assuming 90% response rate in cycle 4 and 5) and the c.v.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will grow to 19.6%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04920" y="1143000"/>
          <a:ext cx="858348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5834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6095880" y="1295280"/>
            <a:ext cx="762120" cy="1067040"/>
          </a:xfrm>
          <a:prstGeom prst="ellipse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1295280"/>
            <a:ext cx="762120" cy="1067040"/>
          </a:xfrm>
          <a:prstGeom prst="ellipse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Understanding the table</a:t>
            </a:r>
            <a:br>
              <a:rPr sz="4400"/>
            </a:br>
            <a:r>
              <a:rPr b="0" lang="en-US" sz="2400" spc="-1" strike="noStrike">
                <a:solidFill>
                  <a:srgbClr val="ff00ff"/>
                </a:solidFill>
                <a:latin typeface="Impact"/>
              </a:rPr>
              <a:t>Example 2</a:t>
            </a:r>
            <a:endParaRPr b="0" lang="en-US" sz="2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2209680"/>
            <a:ext cx="68738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Question: What domains based on a 15% proportion are not publishable?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We are looking for domains with a c.v. higher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than 33.33%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143000" y="1066680"/>
          <a:ext cx="7243920" cy="27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7243920" cy="27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6248520" y="2209680"/>
            <a:ext cx="380880" cy="277920"/>
          </a:xfrm>
          <a:prstGeom prst="line">
            <a:avLst/>
          </a:prstGeom>
          <a:ln w="3168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11480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Click and select Prop. cible of 15%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362320" y="609480"/>
          <a:ext cx="5019480" cy="342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609480"/>
                    <a:ext cx="5019480" cy="34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72200" y="990720"/>
            <a:ext cx="380880" cy="277560"/>
          </a:xfrm>
          <a:prstGeom prst="line">
            <a:avLst/>
          </a:prstGeom>
          <a:ln w="31680">
            <a:solidFill>
              <a:srgbClr val="6600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4114800"/>
            <a:ext cx="5715000" cy="160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Click and select Custom in bs_cv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14:54:54Z</dcterms:created>
  <dc:creator>garrdid</dc:creator>
  <dc:description/>
  <dc:language>en-US</dc:language>
  <cp:lastModifiedBy>garrdid</cp:lastModifiedBy>
  <dcterms:modified xsi:type="dcterms:W3CDTF">2003-06-11T11:50:04Z</dcterms:modified>
  <cp:revision>7</cp:revision>
  <dc:subject/>
  <dc:title>Understanding the table Example 1</dc:title>
</cp:coreProperties>
</file>