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8C18-9064-4D05-89E4-A8B11CB3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FE59-E824-4CB8-9C0B-369C3F86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33D3-7A02-4686-83C5-D9E7D732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2C81-3096-44CF-BA61-33B8B0C1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19B7-1131-4F7F-81E4-8A9CD388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491B-F5AF-4A71-B05D-14281DF7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C6FB-EFEB-48A8-B263-FDAE6F83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0720-64B0-4C84-8C1C-F42BDC2A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EDAB-253F-48E3-A68D-0B87AA86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82DD-AC12-4C65-B84D-24FC0731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2E1E-3A77-42B3-8D84-561E86CF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5D81-A630-4016-9E28-C327FEF0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3BF4-9D89-4A55-BF06-C82D1A60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261F-A705-4F44-87EC-48402C6A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F9D8-F7B3-40E5-8DEF-14B8DB6C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330F-5ACF-425D-B676-DA4480B7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4CC9-A4FD-48EB-989A-2299B8F8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1B11-94DE-4ACF-96CB-2E017628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2A24-1532-4AC8-81D0-30745609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C886-F70A-4249-99F3-367A9FD0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BCC3-1AAF-42FC-A77B-236E6DA4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E04D-4CCB-4E8D-8EBD-BA99152A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139D-65A1-4030-AB86-92A0E902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D38C-2B87-48EB-BD5C-A1C2CE0B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7DEE-991E-4050-A30E-54FB9A518E9B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D797-C5E7-47E0-BCA4-6ADA02CFD072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omprendre le tableau</a:t>
            </a:r>
            <a:br>
              <a:rPr sz="4400"/>
            </a:br>
            <a:r>
              <a:rPr b="0" lang="en-US" sz="2400" spc="-1" strike="noStrike">
                <a:solidFill>
                  <a:srgbClr val="ff00ff"/>
                </a:solidFill>
                <a:latin typeface="Impact"/>
              </a:rPr>
              <a:t>Exemple 1</a:t>
            </a:r>
            <a:endParaRPr b="0" lang="en-US" sz="2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209680"/>
            <a:ext cx="68738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Question: Quelle est la qualité (c.v) des estimés pour la proportion de filles de 3 ans à Terre-Neuve et Labrador au cycle 3?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Combien en restera-t-il aux cycles 4 et 5?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Est-ce que la qualité souffrira de la réduction dela taille de l’échantillon?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523880" y="914400"/>
          <a:ext cx="665820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14400"/>
                    <a:ext cx="665820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124080" y="2286000"/>
            <a:ext cx="381240" cy="277920"/>
          </a:xfrm>
          <a:prstGeom prst="line">
            <a:avLst/>
          </a:prstGeom>
          <a:ln w="3168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411480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Sélectionnez “est plus grand que”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dans le premier champs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828800" y="411480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Finalement, tapez 33.33 dans le second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champs et cliquez sur OK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52480" y="1295280"/>
          <a:ext cx="608184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295280"/>
                    <a:ext cx="608184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828800" y="3962520"/>
            <a:ext cx="5715000" cy="2133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Vous pouvez maintenant voir les premières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rangées des estimés qui ne sont pas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publiables selon les normes de qualité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généralement utilisées à Statistique Canada.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80880" y="1371600"/>
          <a:ext cx="8412120" cy="17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41212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28600" y="1752480"/>
          <a:ext cx="85345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5345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905120" y="2514600"/>
            <a:ext cx="380880" cy="277920"/>
          </a:xfrm>
          <a:prstGeom prst="line">
            <a:avLst/>
          </a:prstGeom>
          <a:ln w="3168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411480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Cliquez sur la flèche à droite dans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Province pour sélectionner une provinc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828800" y="838080"/>
          <a:ext cx="54687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46876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3352680" y="3124080"/>
            <a:ext cx="381240" cy="277920"/>
          </a:xfrm>
          <a:prstGeom prst="line">
            <a:avLst/>
          </a:prstGeom>
          <a:ln w="3168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449568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Sélectionner Terre-Neuve et Labrador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(TERRE-NEUVE)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05120" y="472428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Cliquez pour sélectionner C3 Âge = 3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905120" y="533520"/>
          <a:ext cx="5634000" cy="39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533520"/>
                    <a:ext cx="563400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4419720" y="1905120"/>
            <a:ext cx="380880" cy="277560"/>
          </a:xfrm>
          <a:prstGeom prst="line">
            <a:avLst/>
          </a:prstGeom>
          <a:ln w="3168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828800" y="457200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Puisque la proportion de filles devrait être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près de 50%, cliquez sur Prop. Cible et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sélectionnez 50%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14400" y="1295280"/>
          <a:ext cx="7124760" cy="26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7124760" cy="26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400800" y="3352680"/>
            <a:ext cx="380880" cy="277920"/>
          </a:xfrm>
          <a:prstGeom prst="line">
            <a:avLst/>
          </a:prstGeom>
          <a:ln w="3168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3276720"/>
            <a:ext cx="8001000" cy="29718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Vous pouvez maintenant voir que le c.v. pour ce domain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particulier au cycle 3 était de 17.5% avec 44 enfants dan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l’échantillon.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Au cycle 5, nous prévoyons que 35 enfants resteront dan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l’échantillon (supposant un taux de réponse de 90% aux cycle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4 et 5) et que le c.v. passera à 19.6%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04920" y="1143000"/>
          <a:ext cx="858348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5834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6095880" y="1295280"/>
            <a:ext cx="762120" cy="1067040"/>
          </a:xfrm>
          <a:prstGeom prst="ellipse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1295280"/>
            <a:ext cx="762120" cy="1067040"/>
          </a:xfrm>
          <a:prstGeom prst="ellipse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omprendre le tableau</a:t>
            </a:r>
            <a:br>
              <a:rPr sz="4400"/>
            </a:br>
            <a:r>
              <a:rPr b="0" lang="en-US" sz="2400" spc="-1" strike="noStrike">
                <a:solidFill>
                  <a:srgbClr val="ff00ff"/>
                </a:solidFill>
                <a:latin typeface="Impact"/>
              </a:rPr>
              <a:t>Exmple 2</a:t>
            </a:r>
            <a:endParaRPr b="0" lang="en-US" sz="2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2209680"/>
            <a:ext cx="68738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Question: Quels domaines basés sur une proportion de 15% ne sont pas publiables?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On cherche des domaines pour lesquels le c.v. est supérieur à 33,33%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143000" y="1066680"/>
          <a:ext cx="7243920" cy="27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7243920" cy="27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6248520" y="2209680"/>
            <a:ext cx="380880" cy="277920"/>
          </a:xfrm>
          <a:prstGeom prst="line">
            <a:avLst/>
          </a:prstGeom>
          <a:ln w="3168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11480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Cliquez et sélectionnez Prop. cible = 15%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362320" y="609480"/>
          <a:ext cx="5019480" cy="342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609480"/>
                    <a:ext cx="5019480" cy="34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72200" y="990720"/>
            <a:ext cx="380880" cy="277560"/>
          </a:xfrm>
          <a:prstGeom prst="line">
            <a:avLst/>
          </a:prstGeom>
          <a:ln w="3168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411480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Cliquez et sélectionnez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Personnalisé dans bs_cv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14:54:54Z</dcterms:created>
  <dc:creator>garrdid</dc:creator>
  <dc:description/>
  <dc:language>en-US</dc:language>
  <cp:lastModifiedBy>garrdid</cp:lastModifiedBy>
  <dcterms:modified xsi:type="dcterms:W3CDTF">2003-06-11T11:50:52Z</dcterms:modified>
  <cp:revision>9</cp:revision>
  <dc:subject/>
  <dc:title>Understanding the table Example 1</dc:title>
</cp:coreProperties>
</file>