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FBA-0853-4392-9594-EB0ABB5F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970-A750-4F66-8ACD-E827F099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2C5-CD43-4352-B184-3716BA21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060-C716-4C4A-BA80-4293E473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71EE-7D68-4A02-AAD1-CC418592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FF15-7D8B-433E-BF6A-D6B83C63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ABF7-29D1-4329-999A-4427532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1276-EE10-4B73-89F3-B3062B24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9FA7-C3F7-419A-A743-67F7533A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C2A6-50AF-4F12-9B49-E097BA59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C645-5662-4305-848E-137E6195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80C-4D14-4E8D-8C26-16A8C811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1383-21F8-44E6-8D3E-9375F974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DDEC-AA63-4E92-96B5-3A254F27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4D11-D458-4496-89BC-BDB056C2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CC0F-0020-4147-8803-B0452FD9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EC42-368A-42E9-AD62-75C7D2B1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731-3F2D-4CFE-944F-32F56BDB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39B-3F96-4514-9232-B5A511F6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678-7A1A-4961-8BDA-A61AED97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702-ECD8-4CB3-9567-4C38F475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438-0B14-4FB0-A38C-3435928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3B3-1EA6-46BD-97FF-C2B7CD9B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CAD-8123-4C89-823C-2C96770C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F31C-02BD-4803-8830-D7B96C36D4E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3767-CD01-4DE9-8398-44B88915FD3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Understanding the table</a:t>
            </a:r>
            <a:br>
              <a:rPr sz="4400"/>
            </a:br>
            <a:r>
              <a:rPr b="0" lang="en-US" sz="2400" spc="-1" strike="noStrike">
                <a:solidFill>
                  <a:srgbClr val="ff00ff"/>
                </a:solidFill>
                <a:latin typeface="Impact"/>
              </a:rPr>
              <a:t>Example 1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209680"/>
            <a:ext cx="6873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Question: What is the quality (c.v) of the estimates for the proportion of girls aged 3 in Newfoundland and Labrador at cycle 3?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ow many will there be in cycle 4 and 5?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ill the quality suffer from the smaller sample size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523880" y="914400"/>
          <a:ext cx="665820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65820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124080" y="2286000"/>
            <a:ext cx="38124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elect “is greater than” in the first fiel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inally, type in 33.33 in the second fiel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nd click OK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1295280"/>
          <a:ext cx="608184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95280"/>
                    <a:ext cx="608184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4114800"/>
            <a:ext cx="655308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You can now see the first few rows of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estimates that we can’t release according 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tatistics Canada generally used quality standard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1371600"/>
          <a:ext cx="841212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1212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1752480"/>
          <a:ext cx="85345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5345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905120" y="251460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ck on the right arrow in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rovince to select a provinc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828800" y="838080"/>
          <a:ext cx="54687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4687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352680" y="3124080"/>
            <a:ext cx="38124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49568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elect Newfoundland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nd Labrador (Terre-Neuve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472428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ck to select C3 Age = 3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533520"/>
          <a:ext cx="563400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33520"/>
                    <a:ext cx="563400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419720" y="1905120"/>
            <a:ext cx="380880" cy="27756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45720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ince the proportion of girls should be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round 50%, click on Prop. Cible an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elect 50%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295280"/>
          <a:ext cx="7124760" cy="26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12476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400800" y="335268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3276720"/>
            <a:ext cx="8001000" cy="2971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You can now see that the c.v. for that particular domain i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ycle 3 was 17.5% with 44 children in the sample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n cycle 5, we predict 35 children will be left in sampl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assuming 90% response rate in cycle 4 and 5) and the c.v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ill grow to 19.6%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1143000"/>
          <a:ext cx="85834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8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095880" y="1295280"/>
            <a:ext cx="762120" cy="106704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1295280"/>
            <a:ext cx="762120" cy="106704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Understanding the table</a:t>
            </a:r>
            <a:br>
              <a:rPr sz="4400"/>
            </a:br>
            <a:r>
              <a:rPr b="0" lang="en-US" sz="2400" spc="-1" strike="noStrike">
                <a:solidFill>
                  <a:srgbClr val="ff00ff"/>
                </a:solidFill>
                <a:latin typeface="Impact"/>
              </a:rPr>
              <a:t>Example 2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209680"/>
            <a:ext cx="68738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Question: What domains based on a 15% proportion are not publishable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e are looking for domains with a c.v. higher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an 33.33%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43000" y="1066680"/>
          <a:ext cx="7243920" cy="27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24392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248520" y="220968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ck and select Prop. cible of 15%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62320" y="609480"/>
          <a:ext cx="501948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09480"/>
                    <a:ext cx="501948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990720"/>
            <a:ext cx="380880" cy="27756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ck and select Custom in bs_cv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4:54:54Z</dcterms:created>
  <dc:creator>garrdid</dc:creator>
  <dc:description/>
  <dc:language>en-US</dc:language>
  <cp:lastModifiedBy>garrdid</cp:lastModifiedBy>
  <dcterms:modified xsi:type="dcterms:W3CDTF">2003-06-11T11:50:04Z</dcterms:modified>
  <cp:revision>7</cp:revision>
  <dc:subject/>
  <dc:title>Understanding the table Example 1</dc:title>
</cp:coreProperties>
</file>